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E80B-BED8-4559-9C7D-D4FBF9605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FBF1-B0A1-49CA-8B5E-37EFA047F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915B-9792-4188-AFE9-B17EA9B56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7EA5-BEF9-4E5D-BA43-A839CBC48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646E-D6FF-4150-A971-AD462AE1F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F51B-ACFC-4FA7-B07A-441990034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C8D0-C762-4D47-8E76-5CBFBD6CC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4475-5F16-46C1-8F61-D3549A14B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1A55-3774-4C99-BC2B-C0034195E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DB45-5809-4E86-A9A7-8EB93774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65A1-6F9B-4A7B-B042-03392510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3C9D-5513-4C6E-A2AD-998B2FD2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FE552F-51AF-4255-BDC8-5F2416E69FA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6C9FBF-3C16-49E7-9D60-2F7ADB8EC1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der Pressure, Part 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8</a:t>
            </a:r>
            <a:r>
              <a:rPr b="0" lang="en-US" sz="3200" spc="-1" strike="noStrike" baseline="30000">
                <a:solidFill>
                  <a:srgbClr val="898989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Grade Sci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titu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ltitude is the height above sea level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s altitude _____________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tmospheric pressure _____________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o, If I am walking up a mountain, the atmospheric pressure is ______________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o, If I start walking down the mountain, the atmospheric pressure starts to ______________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f I didn’t stop, and I just kept walking into the ocean, the pressure would continue to ______________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p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pth is the distance below sea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depth ______________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pressure 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3" descr="Chihuahua Scuba Diver.jpg"/>
          <p:cNvPicPr/>
          <p:nvPr/>
        </p:nvPicPr>
        <p:blipFill>
          <a:blip r:embed="rId1"/>
          <a:stretch/>
        </p:blipFill>
        <p:spPr>
          <a:xfrm>
            <a:off x="3408480" y="4068720"/>
            <a:ext cx="231768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uoyant For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oyant Force is the upward force exerted on an object immersed in fluid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Twiggy.jpg"/>
          <p:cNvPicPr/>
          <p:nvPr/>
        </p:nvPicPr>
        <p:blipFill>
          <a:blip r:embed="rId1"/>
          <a:stretch/>
        </p:blipFill>
        <p:spPr>
          <a:xfrm>
            <a:off x="2884320" y="2655720"/>
            <a:ext cx="3349800" cy="2506680"/>
          </a:xfrm>
          <a:prstGeom prst="rect">
            <a:avLst/>
          </a:prstGeom>
          <a:ln w="0">
            <a:noFill/>
          </a:ln>
        </p:spPr>
      </p:pic>
      <p:sp>
        <p:nvSpPr>
          <p:cNvPr id="51" name="Up Arrow 4"/>
          <p:cNvSpPr/>
          <p:nvPr/>
        </p:nvSpPr>
        <p:spPr>
          <a:xfrm>
            <a:off x="3084480" y="5162400"/>
            <a:ext cx="822240" cy="824040"/>
          </a:xfrm>
          <a:prstGeom prst="upArrow">
            <a:avLst>
              <a:gd name="adj1" fmla="val 50000"/>
              <a:gd name="adj2" fmla="val 50109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Up Arrow 6"/>
          <p:cNvSpPr/>
          <p:nvPr/>
        </p:nvSpPr>
        <p:spPr>
          <a:xfrm>
            <a:off x="4075200" y="5162400"/>
            <a:ext cx="823680" cy="824040"/>
          </a:xfrm>
          <a:prstGeom prst="upArrow">
            <a:avLst>
              <a:gd name="adj1" fmla="val 50000"/>
              <a:gd name="adj2" fmla="val 50022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Up Arrow 7"/>
          <p:cNvSpPr/>
          <p:nvPr/>
        </p:nvSpPr>
        <p:spPr>
          <a:xfrm>
            <a:off x="5118120" y="5162400"/>
            <a:ext cx="824040" cy="824040"/>
          </a:xfrm>
          <a:prstGeom prst="up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2676240" y="629136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do we measure buoyant forc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medes’ Princi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chimedes’ Principle states that the buoyant force on an object is equal to the weight of the fluid displaced by the obje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Marble Bathtub.jpg"/>
          <p:cNvPicPr/>
          <p:nvPr/>
        </p:nvPicPr>
        <p:blipFill>
          <a:blip r:embed="rId1"/>
          <a:stretch/>
        </p:blipFill>
        <p:spPr>
          <a:xfrm>
            <a:off x="2720880" y="3355920"/>
            <a:ext cx="414972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1T10:37:22Z</dcterms:created>
  <dc:creator>Cleophis Carson</dc:creator>
  <dc:description/>
  <dc:language>en-US</dc:language>
  <cp:lastModifiedBy>Cleophis Carson</cp:lastModifiedBy>
  <dcterms:modified xsi:type="dcterms:W3CDTF">2011-09-21T14:30:40Z</dcterms:modified>
  <cp:revision>1</cp:revision>
  <dc:subject/>
  <dc:title>Under Pressure, Part II</dc:title>
</cp:coreProperties>
</file>